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D89-BD98-46AA-A76E-76196FB8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01C-5DE3-4FFA-8FF7-33303CD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C1E-FAE3-4113-8C0B-4B083E2A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A75-E466-4918-A93F-2BCABA5E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528-51E5-44F1-B791-9C50986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DCD-4D86-4C86-B756-D5086C2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534-F9BE-4445-824A-7A83E162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7F8-78E2-465F-8559-9F3D864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D18-5322-4942-BACC-A2EAEA1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79F-35A6-4469-B755-7BD3F2A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EC8-68F2-415E-96C3-D9EE08F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F09-F6C5-4081-AEB0-7657FCA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5DC-3CD3-4A56-9495-42624855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olarsystem.nasa.gov/planets/profile.cfm?Object=Ura_Cordelia" TargetMode="External"/><Relationship Id="rId3" Type="http://schemas.openxmlformats.org/officeDocument/2006/relationships/hyperlink" Target="http://solarsystem.nasa.gov/planets/profile.cfm?Object=Ura_Ophelia" TargetMode="External"/><Relationship Id="rId4" Type="http://schemas.openxmlformats.org/officeDocument/2006/relationships/hyperlink" Target="http://solarsystem.nasa.gov/planets/profile.cfm?Object=Ura_Bianca" TargetMode="External"/><Relationship Id="rId5" Type="http://schemas.openxmlformats.org/officeDocument/2006/relationships/hyperlink" Target="http://solarsystem.nasa.gov/planets/profile.cfm?Object=Ura_Cressida" TargetMode="External"/><Relationship Id="rId6" Type="http://schemas.openxmlformats.org/officeDocument/2006/relationships/hyperlink" Target="http://solarsystem.nasa.gov/planets/profile.cfm?Object=Ura_Desdemona" TargetMode="External"/><Relationship Id="rId7" Type="http://schemas.openxmlformats.org/officeDocument/2006/relationships/hyperlink" Target="http://solarsystem.nasa.gov/planets/profile.cfm?Object=Ura_Juliet" TargetMode="External"/><Relationship Id="rId8" Type="http://schemas.openxmlformats.org/officeDocument/2006/relationships/hyperlink" Target="http://solarsystem.nasa.gov/planets/profile.cfm?Object=Ura_Portia" TargetMode="External"/><Relationship Id="rId9" Type="http://schemas.openxmlformats.org/officeDocument/2006/relationships/hyperlink" Target="http://solarsystem.nasa.gov/planets/profile.cfm?Object=Ura_Rosalind" TargetMode="External"/><Relationship Id="rId10" Type="http://schemas.openxmlformats.org/officeDocument/2006/relationships/hyperlink" Target="http://www.ifa.hawaii.edu/~sheppard/satellites/urasatdata.html" TargetMode="External"/><Relationship Id="rId11" Type="http://schemas.openxmlformats.org/officeDocument/2006/relationships/hyperlink" Target="http://solarsystem.nasa.gov/planets/profile.cfm?Object=Ura_Belinda" TargetMode="External"/><Relationship Id="rId12" Type="http://schemas.openxmlformats.org/officeDocument/2006/relationships/hyperlink" Target="http://solarsystem.nasa.gov/planets/profile.cfm?Object=Ura_Perdita" TargetMode="External"/><Relationship Id="rId13" Type="http://schemas.openxmlformats.org/officeDocument/2006/relationships/hyperlink" Target="http://solarsystem.nasa.gov/planets/profile.cfm?Object=Ura_Puck" TargetMode="External"/><Relationship Id="rId14" Type="http://schemas.openxmlformats.org/officeDocument/2006/relationships/hyperlink" Target="http://www.ifa.hawaii.edu/~sheppard/satellites/urasatdata.html" TargetMode="External"/><Relationship Id="rId15" Type="http://schemas.openxmlformats.org/officeDocument/2006/relationships/hyperlink" Target="http://solarsystem.nasa.gov/planets/profile.cfm?Object=Ura_Miranda" TargetMode="External"/><Relationship Id="rId16" Type="http://schemas.openxmlformats.org/officeDocument/2006/relationships/hyperlink" Target="http://solarsystem.nasa.gov/planets/profile.cfm?Object=Ura_Francisco" TargetMode="External"/><Relationship Id="rId17" Type="http://schemas.openxmlformats.org/officeDocument/2006/relationships/hyperlink" Target="http://solarsystem.nasa.gov/planets/profile.cfm?Object=Ura_Ariel" TargetMode="External"/><Relationship Id="rId18" Type="http://schemas.openxmlformats.org/officeDocument/2006/relationships/hyperlink" Target="http://solarsystem.nasa.gov/planets/profile.cfm?Object=Ura_Umbriel" TargetMode="External"/><Relationship Id="rId19" Type="http://schemas.openxmlformats.org/officeDocument/2006/relationships/hyperlink" Target="http://solarsystem.nasa.gov/planets/profile.cfm?Object=Ura_Titania" TargetMode="External"/><Relationship Id="rId20" Type="http://schemas.openxmlformats.org/officeDocument/2006/relationships/hyperlink" Target="http://solarsystem.nasa.gov/planets/profile.cfm?Object=Ura_Oberon" TargetMode="External"/><Relationship Id="rId21" Type="http://schemas.openxmlformats.org/officeDocument/2006/relationships/hyperlink" Target="http://solarsystem.nasa.gov/planets/profile.cfm?Object=Ura_Caliban" TargetMode="External"/><Relationship Id="rId22" Type="http://schemas.openxmlformats.org/officeDocument/2006/relationships/hyperlink" Target="http://solarsystem.nasa.gov/planets/profile.cfm?Object=Ura_Stephano" TargetMode="External"/><Relationship Id="rId23" Type="http://schemas.openxmlformats.org/officeDocument/2006/relationships/hyperlink" Target="http://nssdc.gsfc.nasa.gov/planetary/factsheet/uraniansatfact.html" TargetMode="External"/><Relationship Id="rId24" Type="http://schemas.openxmlformats.org/officeDocument/2006/relationships/hyperlink" Target="http://solarsystem.nasa.gov/planets/profile.cfm?Object=Ura_Sycorax" TargetMode="External"/><Relationship Id="rId25" Type="http://schemas.openxmlformats.org/officeDocument/2006/relationships/hyperlink" Target="http://solarsystem.nasa.gov/planets/profile.cfm?Object=Ura_Margaret" TargetMode="External"/><Relationship Id="rId26" Type="http://schemas.openxmlformats.org/officeDocument/2006/relationships/hyperlink" Target="http://solarsystem.nasa.gov/planets/profile.cfm?Object=Ura_Prospero" TargetMode="External"/><Relationship Id="rId27" Type="http://schemas.openxmlformats.org/officeDocument/2006/relationships/hyperlink" Target="http://solarsystem.nasa.gov/planets/profile.cfm?Object=Ura_Setebos" TargetMode="External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ds.jpl.nasa.gov/planets/choices/uranus1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nchantedlearning.com/subjects/astronomy/glossary/indexh.shtml#hydrogen" TargetMode="External"/><Relationship Id="rId3" Type="http://schemas.openxmlformats.org/officeDocument/2006/relationships/hyperlink" Target="http://www.enchantedlearning.com/subjects/astronomy/glossary/indexh.shtml#helium" TargetMode="External"/><Relationship Id="rId4" Type="http://schemas.openxmlformats.org/officeDocument/2006/relationships/hyperlink" Target="http://www.enchantedlearning.com/subjects/astronomy/glossary/indexh.shtml#methane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hyperlink" Target="http://pds-rings.seti.org/uranus/voyager/PIA00142.htm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10552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ta 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 picture of Uranus. This planet is very cold  so color is sky b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pds.jpl.nasa.gov/planets/images/browse/uranus/uranus.jpg"/>
          <p:cNvPicPr/>
          <p:nvPr/>
        </p:nvPicPr>
        <p:blipFill>
          <a:blip r:embed="rId1"/>
          <a:stretch/>
        </p:blipFill>
        <p:spPr>
          <a:xfrm>
            <a:off x="4952880" y="914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1. Cordel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Uranus moon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 Ophelia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3. Bianc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4. Cressi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5. Desdemon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6. Juliet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7. Port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8. Rosalind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9. Mab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0. Belin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1. Perdit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2. Puck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13. Cupid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4. Miran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5. Francisc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16. Ariel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. Umbriel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8. Titan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19. Oberon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20. Caliban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21. Stephan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22. Trincul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23. Sycorax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24. Margaret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25. Prosper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26. Setebos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7. Ferdinand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www.kidsastronom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www.nineplanets.org/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solarsystem.nasa.gov/index.cf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www.windows.ucar.edu/tour/link=/our_solar_system/solar_system.html&amp;edu=h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um Herschel discovered Uranus on March 13, 1781 by searching sky with his 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Roman god Ur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ranus’s symb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939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h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sun in AU: 19.218  in km : 2,870,990,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ys to orbit around the sun:30684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one day (number of hours in one day): 17.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jpl.nasa.gov/galileo/sepo/education/nav/ss2.gif"/>
          <p:cNvPicPr/>
          <p:nvPr/>
        </p:nvPicPr>
        <p:blipFill>
          <a:blip r:embed="rId2"/>
          <a:stretch/>
        </p:blipFill>
        <p:spPr>
          <a:xfrm>
            <a:off x="1752480" y="5257800"/>
            <a:ext cx="4934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Uranu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:735331365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: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.43 m/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orial Circumference :Metric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60,592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 Density : Metric: 1.30 g/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a photo (with a caption) of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ranu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and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ing this planet at 185 mph (300 kph. Uranus' icy atmosphere consist of 83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5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2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th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www.enchantedlearning.com/ugifs/Uranusinside.GIF"/>
          <p:cNvPicPr/>
          <p:nvPr/>
        </p:nvPicPr>
        <p:blipFill>
          <a:blip r:embed="rId5"/>
          <a:stretch/>
        </p:blipFill>
        <p:spPr>
          <a:xfrm>
            <a:off x="2514600" y="3276720"/>
            <a:ext cx="41148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us’s average temperatur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84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ways cold because it very far from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us have 27 m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is  Ariel Belinda Caliban Cordelia,Cressida, Cupid Desdemona Ferdinandv Francisco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i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7,200,000km far from Uranus. It was discovered by Gladman, Nicholson, Burns, &amp; Kavelaars on 199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>
              <a:alphaModFix amt="46000"/>
            </a:blip>
            <a:tile tx="0" ty="0" sx="100000" sy="100000" algn="ctr"/>
          </a:blipFill>
          <a:ln cap="sq"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ranus has 11rings called six, five, four, Alpha, Beta, Eta, Gamma, Delta, Lambda ,Epsil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/2003 U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2003 U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the rings while in the shadow of Ur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Uranus Ring Syste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4343400"/>
            <a:ext cx="125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1-22T10:21:06Z</dcterms:modified>
  <cp:revision>35</cp:revision>
  <dc:subject/>
  <dc:title>Name of Planet</dc:title>
</cp:coreProperties>
</file>